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8CEFC-458E-43E1-BA32-0EC82592E0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ve this slide up while you answer any questions (or until next speaker starts his/her talk) so people can copy down the UR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mention that Suzi is working on that last i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ickly go over some of the main features.  Next slide has screensho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2BE71-71E4-45BA-8C78-0892D57BB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1817B-1CB9-4D51-94E3-CABDB6DE3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71D90-C998-4FCC-93B6-F3031129B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65785-1D85-4DCB-9C9E-D42756B1D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97BB7-5E31-488C-BAF5-BA332FC6B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0A7AD-A196-4EB0-8B30-2339BC4B5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F53FC-E815-4F47-9E46-46B01DD63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749C7-0F73-4F46-B3AA-6BA6AF91A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A9BB5-0B63-45B8-A336-C0117EB67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6E275-FD73-49F0-A5EA-8F1EB2A69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DBB28-CCA8-4F85-8458-B1ACC5118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AEA8B-D3B9-45A8-A275-876369806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e70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206CE-F830-4A17-8CD6-6DDA8F667F4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.fruitfly.org/annot/apollo/install.html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534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pollo Progress Repor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14040" y="5410080"/>
            <a:ext cx="746748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MOD Meeting, Berkele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ptember 15, 200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295280" y="1905120"/>
            <a:ext cx="671832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533520" y="4419360"/>
            <a:ext cx="86104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de available at SourceForge: </a:t>
            </a: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http://sourceforge.net/projects/gmod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staller available at </a:t>
            </a:r>
            <a:r>
              <a:rPr b="0" lang="en-US" sz="3200" spc="-1" strike="noStrike" u="sng">
                <a:solidFill>
                  <a:srgbClr val="66ccff"/>
                </a:solidFill>
                <a:uFillTx/>
                <a:latin typeface="Arial"/>
                <a:hlinkClick r:id="rId1"/>
              </a:rPr>
              <a:t>http://ww.fruitfly.org/annot/apollo/install.htm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1219320" y="609480"/>
            <a:ext cx="67183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May 2003: Coming soon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66"/>
                </a:solidFill>
                <a:latin typeface="Arial"/>
              </a:rPr>
              <a:t>Upgrade to JDK 1.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Handle non-gene annotations bette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Improve Jalvie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e70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lete gapped alignments for GAME (cigar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e70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66"/>
                </a:solidFill>
                <a:latin typeface="Arial"/>
              </a:rPr>
              <a:t>Match/mismatch coloring sche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e70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Get alignment sequences for Ensembl da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Have sequences, don’t have cigar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e701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prove memory usa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Improve synteny vie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Layer raw BLAST results over current reg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66"/>
                </a:solidFill>
                <a:latin typeface="Arial"/>
              </a:rPr>
              <a:t>Highlight matches to new sequen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Highlighting new sequence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w sequences (since last pipeline run) box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w” date for each type can be specified in tiers f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e70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fferent pipeline databases might have different update da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 "Fly Sequence", "Community GB” …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"31-JAN-2003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 "BLASTX Similarity to Fly", "BLASTX Similarity to Fly” …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"31-MAY-2002"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9144000" cy="6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Alignments for Jalview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ed full alignment of results (including gap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igars are a compact way to represent gapped align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ATATAGGGATAT-----ATAGG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ATATA---ATATCCCCCATAGG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M 5  I 3 M 4 D 5 M 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 need to represent mismatches in cigars, just ga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38188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Alignment display before and after cigars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828800" y="4191120"/>
            <a:ext cx="7086600" cy="24922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228600" y="1600200"/>
            <a:ext cx="7085160" cy="24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BOP/Apollo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OP now integrated with Apoll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e70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un as standalone application or launch from Apoll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ad/layer raw analysis result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e70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LAST (all flavor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e70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m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e70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NSC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e70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gene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e70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ing soon: BLAT (Josh Kaminker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BOP/Apollo GUI for BLAS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685800" y="1371600"/>
            <a:ext cx="7924680" cy="530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Apollo use/reus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448 downloads YT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e70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993 Windo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e70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2 Solar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e70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12 Mac OS 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e70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73 Linu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e70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8 Generic Uni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ny groups are adapting Apollo to their needs (e.g. writing new data adapter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The Apollo Te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rkeley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e70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zanna Lewis, Nomi Harris, Mark Gibson, Sima Misra, (John Richter), (Colin Wie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e70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All the FlyBase curator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nger Institut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e70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ivek Iyer, (Steve Searle), (Michele Clamp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GI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e70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vid Goodstein (adding regexp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28T03:56:12Z</dcterms:created>
  <dc:creator>Nomi Harris</dc:creator>
  <dc:description/>
  <dc:language>en-US</dc:language>
  <cp:lastModifiedBy>Nomi Haris</cp:lastModifiedBy>
  <dcterms:modified xsi:type="dcterms:W3CDTF">2003-09-15T04:37:55Z</dcterms:modified>
  <cp:revision>310</cp:revision>
  <dc:subject/>
  <dc:title>Slide 1</dc:title>
</cp:coreProperties>
</file>